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966-6721-49A1-8C18-B36915FC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D72-3052-40FD-B491-53721A7A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B2F-FF1F-4FEB-8182-0A832511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644-BFEA-4EF7-BDAF-C1B09242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83C-9B12-4DBC-9ABB-85D6944C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6AC-E832-467A-9A74-376F1025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C65-ABFC-4D28-B94F-00FC94B4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E5F-8075-4305-8F71-42953AF8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5D2-7A4A-4C1D-8247-BC473618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7C7-9CBC-4B3E-A55C-46AF3F6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5D6-EBEC-44E0-9800-64E122A4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1FE-E6A9-4DCB-BAA7-9B5A73B7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8FBC-5F03-455D-9AAA-19FBC8AAF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alabama.shtm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enchantedlearning.com/usa/states/alabama/" TargetMode="External"/><Relationship Id="rId4" Type="http://schemas.openxmlformats.org/officeDocument/2006/relationships/hyperlink" Target="http://www.jewelrymall.com/cgibin/xlinker.cgi?loc=131&amp;lf=131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6400" y="30492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la Knud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0"/>
            <a:ext cx="4138560" cy="24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abam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60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:Montgom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: we dare defend our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 : 12/14/18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 :Cotton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Flower :Camel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Bird : Yellowh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song : Alab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 name : tribal t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:4,447,1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 : State Blue Qu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685800"/>
            <a:ext cx="231300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96252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ab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2/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alabam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990720"/>
            <a:ext cx="2038320" cy="1952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971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State Jewel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wel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l http://www.jewelrymall.com/stategems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es capitol is Montgom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049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52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retty stone from Alab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4114800" y="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81080" y="274320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nton  M. Blount Alabama 4/13/12 http://www.postcardsfrom.com/t1/arcin.htm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380052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3352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31240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Alabama,4/13/12, http://www.EnchantedLearning.com/usa/states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53Z</dcterms:created>
  <dc:creator>install</dc:creator>
  <dc:description/>
  <dc:language>en-US</dc:language>
  <cp:lastModifiedBy>install</cp:lastModifiedBy>
  <dcterms:modified xsi:type="dcterms:W3CDTF">2012-04-16T13:05:06Z</dcterms:modified>
  <cp:revision>9</cp:revision>
  <dc:subject/>
  <dc:title>Slide 1</dc:title>
</cp:coreProperties>
</file>